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537-65D7-48D5-ABC6-3F3BBA08B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9DCA-0F21-4B01-80A4-97EF75AB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34A-F8B4-47A8-B2DA-90050B3C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A1D-F721-4A8B-AF12-1140582D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889-5EE1-4F1B-81C5-52F608F3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3AD-C461-4E3A-985A-53752D8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3F1-7EAC-45CD-BED1-B38842B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385-6E4A-47E0-96A5-22D654CD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0ED-78EA-4D02-B77F-2CBBE2F5B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D2E-2A25-4D15-8FEC-F68357B7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0A5-1E13-4FF7-BC24-262DEADE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60E3-94BF-4C3C-BE56-D0D781CB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964-EBC9-410D-A2A5-D47D344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5CD-1FBA-4897-B6D1-4A66940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1A0E-ACCF-4BBA-8B3B-5F681B88B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4_04t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4 Per capita energy consumption is highest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14_06t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a high cost relative to other energ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5 Nuclear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a high cost relative to other energ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s a renewabl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yet to have significant environment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as first produced in the late nineteen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6 Of the following regions or countries, which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source of miner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4_12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 to review the Ch. 14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’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7 The temperature of the atmosphere was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14_13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8 Acid precipit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global pheno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ost prevalent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related to prevailing w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ost common near industrial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4_14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9 Which type of renewable energy produces the most air pol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uclear 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ydroelectr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ing due to species exti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10 Biodiversity in the tropi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creased by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function of numbers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function of distribution of specie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creasing due to species exti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hifting cul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trole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1 The greatest proportion of energy use in the United States in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ydroelectric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uclear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ural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14_01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2 Fossil fuel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ssentially infinite in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stributed relatively evenly around the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 source of renewabl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t a significant source of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4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03 Which country or region produces the smallest amount of petrole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05-21T14:33:14Z</dcterms:modified>
  <cp:revision>81</cp:revision>
  <dc:subject/>
  <dc:title>CRS Chapter 4</dc:title>
</cp:coreProperties>
</file>